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7C09-43D0-48FA-8ED4-BCECDA0C26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081E-29E3-469A-AA55-F0D8BCAE6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83E-B8EC-447D-8634-EED71BBFD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B13-B12D-4EE2-9DD1-7BD588FE1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49D-3381-4504-A529-B53978BCC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BE8-837D-463A-9F1A-DF7356C45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DE73-D875-4440-A481-D36900AF0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2D33-ACC8-48CD-A546-19E5ED045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66E-5341-4C28-BF35-2D19F328F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0BD-0B3E-456E-87B5-570807FC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F7E-9611-40FE-A1F4-DE468445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2C0-8E4C-4AE3-9790-13A93D77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6C0-1BAF-433B-B7CA-E68B5207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F75C-2764-4752-A8CB-2407B672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DD68-9170-4965-8B81-FC90002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0CC7-58CE-49F0-8FAD-740087D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53A-30E5-4A60-A42E-FEA55119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06B-028C-4F0D-B06A-07FDB47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50D-91BD-4529-89D0-5DB6264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6217-A983-4CF9-A2FE-5FD53E7B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AC8-F373-4AB1-A05F-1A47AE1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23E-9967-4830-8B23-4D56636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79FA-CA0F-4368-9118-64990B5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955-7074-4316-BBCE-82272712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8168-DDD5-4057-99CE-5EDCA394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9AC3-6D96-409F-A204-8C608945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93EC-0A1A-4DC4-A818-A982B0F8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0D9A-CE76-44FB-B9BD-191E59F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8566-9B1F-45F2-86CE-C7AC761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519A-2167-4897-970A-78E7D49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4747-5286-4777-A04F-12958DBB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C6C-76D8-40C6-AAE2-A94F47A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F3FD-E498-435B-977B-276D46D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96CA-8257-4A45-9156-8E79BC7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8679-7144-43B7-9722-62E248B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4057-FA33-4762-86C0-F1F7CD7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93AF-60A3-4467-A083-B352E9F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80E2-E615-4CE8-9D26-03E8512D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1435-60B4-47EB-87EC-FB13F8D2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412F-B470-4738-A602-6DF4A0D1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6D25-CF7E-4568-A588-635B43E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23CE-B94A-4028-97D6-195B566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0AB-584C-4FBF-96FE-CB9BFAA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62CF-40B6-44E0-AEED-4DB1606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D66A-F167-483A-8864-DC66CBDC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DCB9-C9B5-463B-88E0-747995B9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B2F9-00ED-4DD9-B0AE-D84AD8D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E8D8-F22B-443E-B80C-B52F9F0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52B6-D175-4F6D-956B-40DDF1C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CDE0-AAB3-44CB-BF64-3F17AE8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1201-4398-4F8A-A099-167CF7C0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D926-78B1-41CB-B11E-8CCE39E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32E9-F5A8-487E-BB56-93FD7BB6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C28-DDBF-476B-B3F5-8C298F4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860B-20F2-4360-81E0-5DF9D52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0EF1-153A-42DB-9B43-3F30F3C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EDDC-3B4C-4D94-97EA-75AE9E26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97D6-E1AD-45B6-9E75-8E0A1B66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1368-A8CA-48CD-8F5D-9608AA9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FEEA-0045-4F05-B8A0-45673F5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FE634-46F9-48B7-A82A-03738ED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2D20-B51E-4B0D-BDB0-45DCEC8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99B9-5DDE-4DD9-8838-530D900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4077-C831-4C0C-982D-44758F4C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9CC-E86A-4001-B2E6-58BBF3B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C75E-7029-4ACC-AA11-827B76DC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3AA1-472C-4B64-8951-2F85B201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C0E5-330F-42F3-A833-7E735787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7CE9-BC21-4F95-8006-5FB2115F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4597A-70E3-4B12-81CD-3D745E2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78E4-6D59-49D9-8C33-B18C5CC7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975C-F206-4A0A-9222-9D8AF86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68610-4415-4A48-9165-6BBE0005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EB26-FE52-4EF2-8897-236A266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D3B7-280D-4FBA-85A2-64D532F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32A-3479-432B-82D7-62B05DB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93F4-4911-427C-97E1-5395304C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E993-CF5A-4DD9-A911-FE02A64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6486-F1C1-4D45-BDA4-88BF4DAE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475B-72A7-47E9-809D-0C0379C7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A469-08F2-4EA6-98AB-814D52C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E2A1C-B3C7-4E4C-A799-A0CC109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D2E8-C293-45B7-8231-194D4909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FB55-F0D3-4F56-BABD-294F243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4B02-831E-4A32-998E-5B0B8B4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920A-1D14-484C-B16D-DC48B56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714-0FA2-4C44-953C-111B322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E1CC-9646-42FC-9CB7-7EC84D7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2D70-7111-4B40-8968-1C997CD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6391-9BF5-48BF-94CA-D9B95A2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491E-86E2-40E6-BD0D-9816993E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FA0F-1126-4C8B-A5EC-3275BA65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77E-8DF5-4964-9638-75E8402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867E-242A-4B0D-87E5-9612D770CE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11A-B876-4EC9-A2B9-CABF3F0739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280-AABC-4CC3-8957-F94293BCCF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C5E0-D84A-4B71-BE05-8CFA8F0C55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0292-0A8A-4A3B-8F5E-0375B6F570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5C8-1ED2-41E4-8FDF-B885BC15F2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D642-8A7F-420C-90D2-BDB3160726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ставное именное сказуемое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409720" y="4723920"/>
            <a:ext cx="3429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ста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ршова Ю.Н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990720" y="182880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ческий, пол минуты, увидил,блистели, растилил, зоря, французким, удивишся, плетённой корзиной, в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"/>
          <p:cNvSpPr/>
          <p:nvPr/>
        </p:nvSpPr>
        <p:spPr>
          <a:xfrm>
            <a:off x="1066680" y="609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ьте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т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ческий, п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уты, увид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, бл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и, р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, з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, француз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, удивиш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плетё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орзиной, в предложен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2640" y="1828440"/>
            <a:ext cx="7635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</a:t>
            </a:r>
            <a:br>
              <a:rPr sz="4400"/>
            </a:br>
            <a:br>
              <a:rPr sz="3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ое именное сказуемое (СИС)</a:t>
            </a:r>
            <a:br>
              <a:rPr sz="39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431720" y="1600200"/>
            <a:ext cx="7407000" cy="3657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just">
              <a:lnSpc>
                <a:spcPct val="8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составным                                 именным сказуемым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, какими частями речи может выражаться именная часть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тличать СИС от ПГС и СГС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603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ное именное сказуемо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5" name="Группа 9"/>
          <p:cNvGrpSpPr/>
          <p:nvPr/>
        </p:nvGrpSpPr>
        <p:grpSpPr>
          <a:xfrm>
            <a:off x="990720" y="2438280"/>
            <a:ext cx="7543800" cy="2438640"/>
            <a:chOff x="990720" y="2438280"/>
            <a:chExt cx="7543800" cy="2438640"/>
          </a:xfrm>
        </p:grpSpPr>
        <p:sp>
          <p:nvSpPr>
            <p:cNvPr id="336" name="Rectangle 3"/>
            <p:cNvSpPr/>
            <p:nvPr/>
          </p:nvSpPr>
          <p:spPr>
            <a:xfrm>
              <a:off x="990720" y="2438280"/>
              <a:ext cx="1066680" cy="243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2971800" y="2438280"/>
              <a:ext cx="2515320" cy="243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гол- связ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Грамматическое   значени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6198840" y="2438280"/>
              <a:ext cx="2335680" cy="243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менная ч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лексическое  значени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2514600" y="3429000"/>
              <a:ext cx="375840" cy="72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5639040" y="3429000"/>
              <a:ext cx="4744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360360"/>
            <a:ext cx="7696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ы вспомогательных слов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696080" cy="462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770040" indent="-743040">
              <a:lnSpc>
                <a:spcPct val="90000"/>
              </a:lnSpc>
              <a:spcBef>
                <a:spcPts val="601"/>
              </a:spcBef>
              <a:buClr>
                <a:srgbClr val="320e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лагол-связка </a:t>
            </a:r>
            <a:r>
              <a:rPr b="0" i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ыть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90000"/>
              </a:lnSpc>
              <a:spcBef>
                <a:spcPts val="601"/>
              </a:spcBef>
              <a:buClr>
                <a:srgbClr val="320e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лаголы-связки </a:t>
            </a:r>
            <a:r>
              <a:rPr b="0" i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елаться, стать, казаться 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90000"/>
              </a:lnSpc>
              <a:spcBef>
                <a:spcPts val="601"/>
              </a:spcBef>
              <a:buClr>
                <a:srgbClr val="320e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лаголы-связки со значением движения,  положения в пространстве: </a:t>
            </a:r>
            <a:r>
              <a:rPr b="0" i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йти, приехать, вернуться и др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90000"/>
              </a:lnSpc>
              <a:spcBef>
                <a:spcPts val="601"/>
              </a:spcBef>
              <a:buClr>
                <a:srgbClr val="320e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четания вспомогательных слов с определённой формой глагола-связки (слова: </a:t>
            </a:r>
            <a:r>
              <a:rPr b="0" i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д, готов, должен и др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ражение именной части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44" name="Группа 26"/>
          <p:cNvGrpSpPr/>
          <p:nvPr/>
        </p:nvGrpSpPr>
        <p:grpSpPr>
          <a:xfrm>
            <a:off x="1219320" y="1981080"/>
            <a:ext cx="7543800" cy="4648320"/>
            <a:chOff x="1219320" y="1981080"/>
            <a:chExt cx="7543800" cy="4648320"/>
          </a:xfrm>
        </p:grpSpPr>
        <p:sp>
          <p:nvSpPr>
            <p:cNvPr id="345" name="Заголовок 1"/>
            <p:cNvSpPr/>
            <p:nvPr/>
          </p:nvSpPr>
          <p:spPr>
            <a:xfrm>
              <a:off x="1219320" y="1981080"/>
              <a:ext cx="838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Заголовок 1"/>
            <p:cNvSpPr/>
            <p:nvPr/>
          </p:nvSpPr>
          <p:spPr>
            <a:xfrm>
              <a:off x="1219320" y="266688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Заголовок 1"/>
            <p:cNvSpPr/>
            <p:nvPr/>
          </p:nvSpPr>
          <p:spPr>
            <a:xfrm>
              <a:off x="1219320" y="312408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Заголовок 1"/>
            <p:cNvSpPr/>
            <p:nvPr/>
          </p:nvSpPr>
          <p:spPr>
            <a:xfrm>
              <a:off x="1219320" y="358128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Заголовок 1"/>
            <p:cNvSpPr/>
            <p:nvPr/>
          </p:nvSpPr>
          <p:spPr>
            <a:xfrm>
              <a:off x="1295280" y="4648320"/>
              <a:ext cx="838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Заголовок 1"/>
            <p:cNvSpPr/>
            <p:nvPr/>
          </p:nvSpPr>
          <p:spPr>
            <a:xfrm>
              <a:off x="1295280" y="525780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Заголовок 1"/>
            <p:cNvSpPr/>
            <p:nvPr/>
          </p:nvSpPr>
          <p:spPr>
            <a:xfrm>
              <a:off x="1371600" y="579132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Стрелка вправо 12"/>
            <p:cNvSpPr/>
            <p:nvPr/>
          </p:nvSpPr>
          <p:spPr>
            <a:xfrm>
              <a:off x="2438280" y="228564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Стрелка вправо 13"/>
            <p:cNvSpPr/>
            <p:nvPr/>
          </p:nvSpPr>
          <p:spPr>
            <a:xfrm>
              <a:off x="2438280" y="274284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Стрелка вправо 14"/>
            <p:cNvSpPr/>
            <p:nvPr/>
          </p:nvSpPr>
          <p:spPr>
            <a:xfrm>
              <a:off x="2438280" y="327636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Стрелка вправо 15"/>
            <p:cNvSpPr/>
            <p:nvPr/>
          </p:nvSpPr>
          <p:spPr>
            <a:xfrm>
              <a:off x="2362320" y="548640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Стрелка вправо 16"/>
            <p:cNvSpPr/>
            <p:nvPr/>
          </p:nvSpPr>
          <p:spPr>
            <a:xfrm>
              <a:off x="2362320" y="495288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Стрелка вправо 17"/>
            <p:cNvSpPr/>
            <p:nvPr/>
          </p:nvSpPr>
          <p:spPr>
            <a:xfrm>
              <a:off x="2438280" y="373356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Стрелка вправо 18"/>
            <p:cNvSpPr/>
            <p:nvPr/>
          </p:nvSpPr>
          <p:spPr>
            <a:xfrm>
              <a:off x="2362320" y="6096240"/>
              <a:ext cx="685800" cy="152280"/>
            </a:xfrm>
            <a:prstGeom prst="right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Заголовок 1"/>
            <p:cNvSpPr/>
            <p:nvPr/>
          </p:nvSpPr>
          <p:spPr>
            <a:xfrm>
              <a:off x="3505320" y="213336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ительно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Заголовок 1"/>
            <p:cNvSpPr/>
            <p:nvPr/>
          </p:nvSpPr>
          <p:spPr>
            <a:xfrm>
              <a:off x="3505320" y="259056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лагательное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Заголовок 1"/>
            <p:cNvSpPr/>
            <p:nvPr/>
          </p:nvSpPr>
          <p:spPr>
            <a:xfrm>
              <a:off x="3505320" y="304776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аст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Заголовок 1"/>
            <p:cNvSpPr/>
            <p:nvPr/>
          </p:nvSpPr>
          <p:spPr>
            <a:xfrm>
              <a:off x="3581280" y="3581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еч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Заголовок 1"/>
            <p:cNvSpPr/>
            <p:nvPr/>
          </p:nvSpPr>
          <p:spPr>
            <a:xfrm>
              <a:off x="3505320" y="480060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ислительно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Заголовок 1"/>
            <p:cNvSpPr/>
            <p:nvPr/>
          </p:nvSpPr>
          <p:spPr>
            <a:xfrm>
              <a:off x="3505320" y="5943600"/>
              <a:ext cx="5257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делимое словосочетание,  Фразеологиз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Заголовок 1"/>
            <p:cNvSpPr/>
            <p:nvPr/>
          </p:nvSpPr>
          <p:spPr>
            <a:xfrm>
              <a:off x="3505320" y="525780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стоимен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7:37:01Z</dcterms:created>
  <dc:creator>машута</dc:creator>
  <dc:description/>
  <dc:language>en-US</dc:language>
  <cp:lastModifiedBy>AAA</cp:lastModifiedBy>
  <dcterms:modified xsi:type="dcterms:W3CDTF">2014-10-20T09:16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